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9.png" ContentType="image/png"/>
  <Override PartName="/ppt/media/image27.png" ContentType="image/png"/>
  <Override PartName="/ppt/media/image2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661680" y="463320"/>
            <a:ext cx="5473800" cy="410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0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8CB1-E41A-4F71-A983-075DBD40BC0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4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9268-38DA-4284-B4B5-D8701C47933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3499-B98C-4CA1-8513-E5A0289E1E2E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735120" y="0"/>
            <a:ext cx="5040360" cy="43876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실용적 필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록 보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치적 행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경제적 교역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정확한 달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건축과 토목 사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농업 관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약품과 치료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문학적 예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익명의 과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지식은 국가기관에 소속된 전문가들의 몫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개인적인 발견보다는 사회 유지에 기여하는 것에 관심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AB97-C2B5-48EA-97B7-357427A9BF9E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87480" y="210960"/>
            <a:ext cx="6622920" cy="49676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243000" y="5468400"/>
            <a:ext cx="638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자연철학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의 발명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지식 자체를 위한 지식 탐구 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(vs. </a:t>
            </a:r>
            <a:r>
              <a:rPr b="0" lang="ko-KR" sz="1800" spc="-1" strike="noStrike">
                <a:solidFill>
                  <a:srgbClr val="0000ff"/>
                </a:solidFill>
                <a:latin typeface="맑은 고딕"/>
              </a:rPr>
              <a:t>원초문명의 실용적 지식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자연에 대한 탈신비화와 객관화 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(vs. </a:t>
            </a:r>
            <a:r>
              <a:rPr b="0" lang="ko-KR" sz="1800" spc="-1" strike="noStrike">
                <a:solidFill>
                  <a:srgbClr val="0000ff"/>
                </a:solidFill>
                <a:latin typeface="맑은 고딕"/>
              </a:rPr>
              <a:t>신화적 우주론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보편적 현상에 대한 일반적 해명 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(vs. </a:t>
            </a:r>
            <a:r>
              <a:rPr b="0" lang="ko-KR" sz="1800" spc="-1" strike="noStrike">
                <a:solidFill>
                  <a:srgbClr val="0000ff"/>
                </a:solidFill>
                <a:latin typeface="맑은 고딕"/>
              </a:rPr>
              <a:t>목록의 과학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사적 탐구 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(vs. </a:t>
            </a:r>
            <a:r>
              <a:rPr b="0" lang="ko-KR" sz="1800" spc="-1" strike="noStrike">
                <a:solidFill>
                  <a:srgbClr val="0000ff"/>
                </a:solidFill>
                <a:latin typeface="맑은 고딕"/>
              </a:rPr>
              <a:t>익명의 과학</a:t>
            </a:r>
            <a:r>
              <a:rPr b="0" lang="en-US" sz="18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학문을 위한 제도적 기관 無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공적 지원 無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학파들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사적인 모임이나 동아리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개인의 지적 재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책임과 명예는 모두 개인의 몫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합리적인 비판과 논쟁의 전통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실용적 욕심 없는 자연에 대한 추상적인 사변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생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기술 활동과 동떨어진 놀이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유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성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절대 권위 없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지적인 논쟁도 권위에 호소하지 않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밀레토스 학파의 철학자들은 타인의 생각에 동의하지 않았으며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이성과 논리와 관찰을 통해 타인의 생각을 공격하고 자신의 주장을 뒷받침했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최근의 연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이집트 문화가 에게 해 주변의 헬레나 문화 발전에 영향을 미치긴 했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헬레나 세계의 내부에서도 다양한 마술과 민간 전승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연금술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점성술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종교적 신비주의 등이 민중 속에서 여전히 유행했다는 사실은 이들과 과학지식이 경쟁했음을 시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7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95AE-975F-41B6-B6B0-DBBB1C91BBC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B87A-BC0C-485B-A6DB-AF6977DCBFF9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87480" y="210960"/>
            <a:ext cx="6622920" cy="49676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243000" y="5468400"/>
            <a:ext cx="638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상에 무관심하다는 평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별만 바라보고 걷던 나머지 우물에 빠졌다는 탈레스의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부러 들어갔다는 해석도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원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8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의 일식 예측하여 전쟁 종식시켰다는 일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상에 무심한 탈레스의 대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도 원한다면 나의 지혜를 이용하여 돈을 벌 수 있음 보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탈레스에 관한 재미있는 많은 일화는 다른 위인들이 경우처럼 사실이 아닐지도 모르지만 적어도 그럴싸한 얘기들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는 얼마나 쉽게 부자가 될 수 있는가를 보여준 적이 었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올리브 대풍작을 예견한 그는 그 지역의 모든 착유기에 대한 전매권을 얻은 다음 나중에 착유기를 빌려주어 많은 돈을 벌어들였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또 말을 잘 안듣는 노새에 관한 일화가 있는데 이 노새는 소금을 운반할때 냇물에 이르면 그 냇물에 뒹굴어 소금을 물에 녹게 한 다음 보다 가볍게 운반하곤 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래서 탈레스는 한번은 이 노새에게 스펀지를 운반하게 해서 골치아픈 노새의 습관을 없애버렸다는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3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77DB-F3CF-4C75-B920-7F77ECDC47E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연에 대한 탈신비화와 일반적 해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Vs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록의 과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개별적 설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번 지진은 왕의 무슨 잘못 때문에 신이 노하여 일어난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”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6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69AA-D690-4E62-BA39-F2315AF64D6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답이 아닌 증명에 관심을 가졌다는 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적 탐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즉 지식에 책임과 명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혹은 불명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는 개인의 몫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9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FD0E-59CC-4B37-88EA-8FCA650997C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밀레토스 학파의 성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새로운 과학적 질문을 던진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어떤 면에서 새로운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매우 비실용적인 질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근본적인 질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답의 방식도 정해져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매우 탈신화화되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2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CE9C-52B2-45E1-A90F-7B5D2FC4D39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1B82-FF22-4C6A-AA38-5B857F07127B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87480" y="210960"/>
            <a:ext cx="6622920" cy="49676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243000" y="5468400"/>
            <a:ext cx="638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탈레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최대의 약점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렇다면 물의 대립물인 불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은 물을 끓여 없애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은 불을 꺼버린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어떻게 불이 물로부터 나올 수 있겠는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낙시만드로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무한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무형의 초기 상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페이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apeiron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으로부터 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 등의 이원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ualit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나오고 세계가 나왔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낙시메네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질은 무에서 나올 수 없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립물인 흙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서로 대립하는 두 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응축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희박화의 힘이 존재하므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기가 다양한 밀도로 응축되어 액체와 고체가 되기도 하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희박해져서 불이 되기도 한다고 설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엠페도클레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기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로 이루어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년 동안 영향력 발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들 사이에는 사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ov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과 싸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ife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즉 인력과 척력 존재한다고 생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E899-3296-4D4B-92FD-B720F2E3EB2B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5250960"/>
            <a:ext cx="543888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낙시만드로스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상당히 기하학적 모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통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-&g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플라톤의 천구 모형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낙시메네스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3619-C227-4B68-8E9B-4A687E15B555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590400" y="0"/>
            <a:ext cx="5400720" cy="43876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각 문명의 공통점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큰 강 옆에 있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나일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유프라테스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티그리스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인더스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황화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고대 문명 탄생에 대한 가설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수자원 가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‘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환경적 제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최초의 문명은 강과 가까운 곳에 위치한 계곡과 평지에서 주로 발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런 지역은 고밀도 농업이 실용성을 갖거나 가능하도록 하는 환경적 범위가 제한되어 있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예컨대 나일강 유역처럼 제한된 거주지에 사는 신석기인들은 인구가 팽참함에 따라 곧 사막과 폭포와 바다가 설정한 환경적 한계에 부딪혔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식량의 생산량을 늘리지 않을 수 없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쟁이 점점 일상화되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것은 습격의 수준을 넘어 정복과 노예화를 포함한 형태로 발전해갔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미 거주지가 포화된 상태였으므로 패자들이 장소를 옮겨 새로운 농업 공동체를 건설하는 것이 불가능했기 때문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특히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치수관리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조직적 활동 필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중앙 권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CBB3-312E-487C-A520-84AB23CBEA59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5468400"/>
            <a:ext cx="54388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피타고라스의 우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주는 거대한 현악기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조화와 비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주 속에서 화음을 듣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4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DA77-EA90-47E5-A0FE-34C4EB7F97B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2842-D818-4643-8BCB-34068907D656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5468400"/>
            <a:ext cx="543888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0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E137-EABB-441E-8FB5-21D34DFF9EC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C590-62EB-4D68-AD67-C23F7AC72361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5250960"/>
            <a:ext cx="543888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6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0560-A3B6-4106-A60D-5482DC3522D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가 다섯 개인 이유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 가지는 상호 변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흙은 불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테르도 불변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9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1076-D3DE-4608-8658-3B49B6E7F51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체의 등속 원운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성적 추론의 산물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영원하며 초월적이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완벽한 순수 형상의 세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운동을 하지만 본질적으로 변하지 않아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적합한 운동은 오직 등속 원운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이후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2000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년간 천문학의 패러다임 이룸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2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6A24-5E99-408A-82CE-4AB5BB2C4AD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B2DD-26B9-4D23-8DE6-B951404B1441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79320" y="5468400"/>
            <a:ext cx="543888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8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D099-B039-4C21-B60B-02CA3C4EDFB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63F7-36F3-4CA2-A1CD-7636E5DCED8B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806400" y="500040"/>
            <a:ext cx="4969080" cy="38163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래 신석기 시대와 구석기 시대를 살던 사람들은 전쟁에서 패배한 뒤에 일반적으로 새로운 곳으로 옮겨갈 수 있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나일강 유역처럼 환경적으로 제한된 지역의 농부들은 달리 갈 곳이 없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승자들은 땅과 관개시설을 점령했을 뿐 아니라 패배한 집단을 정복하고 지배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밀도 농업 시스템을 유지하는 데에 패자들을 노예와 농노로 부렸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러한 과정이 일단 시작되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연합과 집중을 유도하는 역사적인 흐름을 되돌릴 수 없게 되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따라서 신석기 사회는 점점 더 계급화되었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계급 구조의 정점에 오른 소수 특권층이 하층 농민들을 지배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광역적인 권력이 국지적인 권력을 포괄하였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최소한 신석기 시대의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50%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이상 잉여 곡물 증가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1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1C27-025D-4A08-9346-971D23A433E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2AC6-44ED-4CB1-A034-B5D39C6F4E31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79320" y="5324400"/>
            <a:ext cx="54388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상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작도 끝도 없는 완전한 운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등속 원운동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지상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작과 끝이 있는 유한한 직선운동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7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4EFE-DC00-4FB5-8F8E-5849D15049A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3377-E3DB-404B-8EA1-2DE63A2FDA18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79320" y="5540400"/>
            <a:ext cx="5438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의 무게와 위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무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질의 본래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연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위치 규정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공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테르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탁월한 설명력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호수와 바다가 흙 위에 있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물속에서 기포가 올라가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공기 중의 불이 올라가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우주의 중심에 지구가 있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지구가 구형인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지동설 논박</a:t>
            </a:r>
            <a:r>
              <a:rPr b="0" lang="en-US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F3FA-37B9-4DC9-9D61-0193454D6AAB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5395680"/>
            <a:ext cx="5438880" cy="37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 대립쌍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원소의 성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 중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개의 조합으로 구성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성질이 바뀌면 원소도 바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탁월한 설명력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물을 가열하면 증발하는 이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연금술에 이론적 기반 제공</a:t>
            </a:r>
            <a:r>
              <a:rPr b="0" lang="en-US" sz="1400" spc="-1" strike="noStrike">
                <a:solidFill>
                  <a:srgbClr val="000000"/>
                </a:solidFill>
                <a:latin typeface="가는각진제목체"/>
                <a:ea typeface="가는각진제목체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5716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AD8F-445B-4378-8AD6-E5C1A8269013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5324400"/>
            <a:ext cx="54388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식물의 성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씨앗의 잠재력이 실현되는 과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위치의 변화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물질의 본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본래 위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이 실현되는 과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정지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vs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운동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자연스러운 운동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강제된 운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자연스러운 운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사물 자체의 속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원인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의 발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Eg.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천체의 원운동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돌의 수직낙하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불의 수직상승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강제된 운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별도의 외적 원인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동력인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필요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Eg.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수레의 운반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돛단배의 운동 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(cf.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던져진 투창은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?)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9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96EE-E4E1-4230-9142-F9009A1C52F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4C31-381F-4783-A1FE-9CA3469FB41B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0360" y="0"/>
            <a:ext cx="6616800" cy="49640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5468400"/>
            <a:ext cx="54388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모든 문제를 잘 체계적으로 설명한다고 생각하면 오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.g.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투사체의 운동 잘 설명 못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2802-BC9F-41AD-9522-20DAF8428FB8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35120" y="500040"/>
            <a:ext cx="5327640" cy="38876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무엇을 알 수 있을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고도의 문명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즉 고도의 종교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신화적 이론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의식 절차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기술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건축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조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세공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미라제작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천문학적 지식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고도의 계급 지배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관리 기술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중앙집권적 권력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동원능력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c0504d"/>
                </a:solidFill>
                <a:latin typeface="맑은 고딕"/>
              </a:rPr>
              <a:t>기자의 쿠푸 피라미드</a:t>
            </a:r>
            <a:r>
              <a:rPr b="0" lang="en-US" sz="900" spc="-1" strike="noStrike">
                <a:solidFill>
                  <a:srgbClr val="c0504d"/>
                </a:solidFill>
                <a:latin typeface="맑은 고딕"/>
              </a:rPr>
              <a:t>(</a:t>
            </a:r>
            <a:r>
              <a:rPr b="0" lang="ko-KR" sz="900" spc="-1" strike="noStrike">
                <a:solidFill>
                  <a:srgbClr val="c0504d"/>
                </a:solidFill>
                <a:latin typeface="맑은 고딕"/>
              </a:rPr>
              <a:t>기원전 </a:t>
            </a:r>
            <a:r>
              <a:rPr b="0" lang="en-US" sz="900" spc="-1" strike="noStrike">
                <a:solidFill>
                  <a:srgbClr val="c0504d"/>
                </a:solidFill>
                <a:latin typeface="맑은 고딕"/>
              </a:rPr>
              <a:t>2789-2767)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인류 역사상 가장 큰 석조 건축물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부피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2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9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천 ㎦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높이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148m)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평균 무게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2.5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톤에 달하는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23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만 개의 돌로 구성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상당한 수준의 수학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공학적 지식 필요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정확한 방향 설정을 위해서도 전문적 기술 필요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일차적으로는 엄청난 노동력의 산물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약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만 명의 기술자가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2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년간 동원되어 완성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(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비교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서기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60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년 경 중국 대운하 건설에는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55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만 명이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38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년간 투입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피라미드 건축 이유에 대한 재밌는 학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그 자체로 국가의 기술을 훈련하기 위한 활동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초기 피라미드들은 농한기에 군중을 동원하여 국가가 존재한다는 생각을 강화하기 위해 벌인 거대 건축사업의 결과물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하나 이상의 피라미드가 동시에 건축된 이유는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점차 노동력이 남아돌았기 때문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그러므로 기념비적 건축은 초기 이집트 국가의 제도적인 근육운동이라 할 수 있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마치 오늘날의 무기 산업처럼 말이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피라미드 건설은 상징적으로뿐 아니라 그 자체로도 국가 건설이었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662040" y="463680"/>
            <a:ext cx="5473800" cy="41050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지식들은 모두 공학적 기술을 위한 지식이자 정치적 지배를 위한 지식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6" name="슬라이드 번호 개체 틀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D8A0-4C6C-40BF-A745-9E0CA1BAB8C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4FF0-BAA5-4248-B47B-80327897A313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662040" y="0"/>
            <a:ext cx="5400720" cy="42433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고도의 추상화 능력 반영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구전과 인간의 기억력 대체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실용적인 필요에서 가장 중요한 기술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관료체계 하에서 언어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수량적 정보 기록할 필요 절실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경제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법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상업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투표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종교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행정 관련 기록 보존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E.g.)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메소포타미아의 장부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대부분 경제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실용적 목적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필기사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(scribe)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높은 사회적 지위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관료 또는 전문직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보장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최초의 학교 탄생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글과 수학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후에는 신화와 전설 가르침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E.g.)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메소포타미아의 에두바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서판원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필기사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정부 관료 또는 회계사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점성가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천문학자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수학자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의사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기술자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</a:rPr>
              <a:t>교사 등의 전문가가 될 수 있었음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기본적으로는 표의문자의 성격을 띠나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표음문자적인 요소도 함께 가짐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이집트 상형문자는 공식적으로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6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천 개가 확인되었지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파라오에게 소속된 조각가와 필기사들은 수천 년 동안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700-80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개의 문자만 사용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순전히 소리값만 가진 알파벳 기호는 좀더 나중에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차 문명에서 탄생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즉 기원전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110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년 이후에 페니키아인과 함께 등장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바빌로니아 숫자 체계에서는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이 없음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자리로만 판별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BCE7-C559-4AA9-86D5-72B7C539F2C8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50760" y="0"/>
            <a:ext cx="4969080" cy="4316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유명한 얘기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하학은 이집트의 나일 강이 범람한 뒤 토지를 재조사할 필요가 있었기 때문에 기원했다고 지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피라미드에 쓰일 정육면체 돌의 개수 구하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각뿔의 부피 문제와 직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농산물 잉여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파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바빌로니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3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집트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56/81=3.16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알고리즘적 해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스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우유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컵과 같이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제곱하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A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곱하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A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제곱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b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더하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예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비실용적인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놀이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흔적도 발견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바빌로니아에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제곱근을 여섯 자리까지 계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중국에서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i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값을 무려 일곱자리까지 계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실용적인 관점에서 보면 불필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추상 수학 또는 수학 자체를 위한 수학으로 발전하게 되는 조짐을 보여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넓은 맥락에서 볼 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것들 역시 실용적인 목적을 지향한 광범위한 연구 과정에서 이루어진 성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메소포타미아의 지수함수표는 지나치게 정확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제곱근 근사값만큼이나 쓸 데 없어 보이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실제로는 복리 이자율을 계산하는 데 쓰였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연립방정식은 유산과 토지 분배에 유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피 계산은 한가한 기하학적 관심사가 아니라 운하를 비롯한 기반 설비를 건설하는 데 활용되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54EE-99AA-4A7D-87CD-0950F64CE70F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806400" y="0"/>
            <a:ext cx="5113440" cy="438768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교 의식 행사는 정확한 날짜에 해야 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상업 경제 활동에서도 계약날짜 약속 수행에서 달력 필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간의 운행은 하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뜻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달력을 독자적으로 만든다는 것은 신의 뜻을 받아올 수 있는 능력이 있다는 뜻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조선시대에도 새해 초마다 달력받으러 명나라에 갔다 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래서 황제가 안되는 거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문학은 지식의 위계상에서 고급 지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신화와 우주론과 연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바빌로니아 천문학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태음력 채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19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동안 간간히 윤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7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삽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집트의 종교 및 의식 생활을 관장하는 달력은 시민 달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30*12+5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축제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-&g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집트 신화와 연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(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/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씩 어긋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민 달력과 태양 달력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,46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4*365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마다 한 번씩 만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원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77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에 일치했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13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에 일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농업과 관련된 일을 위해서는 돋보이는 천문학적인 사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예컨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시리우스별이 최초로 출현하는 사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보고 예측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문학과 점성술은 분리할 수 없는 통일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점성술과 신비적인 지식은 농작물의 작황이나 군사행동의 결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왕의 미래 등을 예측하는 데 유용하다고 여겨졌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점성술과 마술은 천문학과 더불어 최초의 응용과학이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E964-2878-4DB1-883B-A91CCE03C0D7}" type="slidenum"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806400" y="0"/>
            <a:ext cx="4969080" cy="44593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설명하기 위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끌어들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유비와 설명은 구분되지 않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추상수준이 완전하지 않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인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감정이입이 주요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계적이거나 자연주의적인 모형 없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화와 독립적인 자연주의적 탐구 대상으로서의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연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라는 개념 없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계는 하나의 통일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신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알고 보면 당시 최고의 지식 형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하늘은 신이 깃든 성스럽고 마술적인 존재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천체는 흔히 성스러운 신과 연관되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하늘은 신화와 전설의 무대였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74F7-B990-4E1B-9A0E-23D1416B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4EF-D91D-48AB-801D-39BDD45F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E74-8E91-42CB-9FD5-DAECE83D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4A9-44F2-4A7D-B24F-7C051050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32DE-29DA-4AC6-846C-D56453A9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4883-0F60-47FA-B9B0-E6D17982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F3CB-3EDB-4647-96DF-AD89316E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A234-5D7E-4AB6-B9A7-8704CCDD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672B-BBFB-4837-915D-D34BA9BB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B7F1-8E67-4FA0-8935-78ED3379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1DD5-E8F5-463A-8EFE-B6779C0F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AB7-BDC1-4CB9-A0EC-2FD7DD9B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CC3B-81B5-4A71-8248-6147B80C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0D39-2D98-49DD-9AC6-FC37710B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2DB2-27D7-47B5-ACF6-303A4F94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5B53-4D7E-4E2E-97F1-BC971D5F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BB1A-5E8A-438C-AE70-A0A2260E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8C0E9-2B5E-4772-A319-AC882379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0FDBD-378E-4874-AD3A-31F2595E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2AD93-C7DF-4291-AAA0-7DC2D058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D19BB-927D-4BEC-8B12-563757AC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95B81-F8F4-4B30-9C06-CCE57806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D4D-9F96-4E0B-B74C-CF560ABA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D89FC-8926-4821-A727-79F5F97F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F807A-A002-4355-9E20-102653A5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087E3-5F17-4242-9506-EAE45261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7C5FB-4323-4992-8C78-050151CC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D4070-A107-4C12-87E4-5E3952B9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3577B-AB12-497C-B3BC-730D1AFE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33A45-63E7-4C1B-A803-7C294FA3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CD282-A875-4BEB-A7D9-20C2BFEF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ADAFD-359B-4247-AAE9-1B754478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1D7FF-2619-4F19-8F3A-6016C5FC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75F-8D93-488A-91A9-516BC662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E748E-C481-4D11-BE17-FC85313D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93FE0-9D52-4C1D-9E15-288858B8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B5B67-9A41-400D-875E-9D9CBB82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47197-FA7D-420A-A9EC-D04D4B76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E8ACD-C179-4BFF-BB9C-50CFEBDD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C393F-D16E-412D-8AD5-2EC3E610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DCF4C-7D4A-4708-BC26-84399CFF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0D384-8D2E-4657-80AA-6858CFB8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E5A2B-2FD1-4F0C-BB24-A7DFFED7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D015B-3E23-4B40-9277-98CBBA12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B75-A4BD-42A5-859C-C7C1C395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48B62-B759-42F8-8A7A-92C22E9C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43505-5D25-4EB4-BEA6-9241C40B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FABF8-3628-4CF1-8D19-2FBA80A2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CB415-8C01-4076-B0C3-DAAC1CFB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08C63-56BF-4A72-B528-64144DC5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427B0-E8F7-47CF-BF3A-D4B5B8A1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92124-CE33-44BF-9DAE-A5E00B41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9F88B-51E7-476E-8CC9-7DD7D58D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375C2-ED01-49F6-9EE1-AF22649C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EE485-CEAE-4558-BDB0-2F2D4E05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ED2-8C83-493D-B5B5-B5D32855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17A62-3879-4263-BF43-ECB35263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87654-AEC9-4C15-AE66-C7236235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5DCAD-029C-4DC7-8A9B-8697D358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570A4-8043-4274-98E0-E19B26D6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4B9D0-F071-4C9C-B417-72C7B460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EC9DE-9FD1-48BA-AF4D-0CE96409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FA283-1DBB-4BEB-A15F-A42DF70A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11F3C-2592-45BB-BFBF-775D9728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119C5-8AAA-482B-8A30-4991815B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71C79-5AE7-4913-9832-BD02B132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D90-CB30-434C-AEA4-4D34397B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03FA8-EDFD-49C9-8DBB-1473FA70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4C5C2-F159-4E6C-93A1-D9F8B071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8B017-CA82-4CB2-928C-62F3098F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B55E-73C6-4FCF-AB67-9519ACA0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B06A-59E5-4AB6-B27D-D922E142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8BEB-05B1-41DF-BF0D-76C882CF8417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직사각형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직사각형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직사각형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직사각형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모서리가 둥근 직사각형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모서리가 둥근 직사각형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직사각형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직사각형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직사각형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3D98-DEF8-4085-ADEC-24D8D3B9DDA7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C4C3-8EA0-4E26-89F6-1B6C05DE4530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Georgia"/>
                <a:ea typeface="맑은 고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9953-5450-4DBA-8A65-CACC7B1DFF4C}" type="slidenum">
              <a:rPr b="0" lang="ko-KR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7720-1D87-4177-9EC7-200556003BC5}" type="slidenum">
              <a:rPr b="0" lang="en-US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1482-9C59-4C6E-86E9-367F56C9932B}" type="slidenum">
              <a:rPr b="0" lang="en-US" sz="24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zolaist.org/wiki/images/a/af/&#54588;&#53440;&#44256;&#46972;&#49828;&#51032;_&#50864;&#51452;&#44288;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Trebuchet MS"/>
              </a:rPr>
              <a:t>고대의 과학과 기술</a:t>
            </a:r>
            <a:endParaRPr b="0" lang="en-US" sz="44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deded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고대 문명 지식의 특징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실용적 필요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익명의 과학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목록의 과학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신화적 설명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platomosaic"/>
          <p:cNvPicPr/>
          <p:nvPr/>
        </p:nvPicPr>
        <p:blipFill>
          <a:blip r:embed="rId1"/>
          <a:stretch/>
        </p:blipFill>
        <p:spPr>
          <a:xfrm>
            <a:off x="0" y="-2522520"/>
            <a:ext cx="9144000" cy="1150128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18920" y="5495760"/>
            <a:ext cx="5761080" cy="1362240"/>
          </a:xfrm>
          <a:prstGeom prst="rect">
            <a:avLst/>
          </a:prstGeom>
          <a:solidFill>
            <a:srgbClr val="424456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헬레나 시대의 그리스</a:t>
            </a:r>
            <a:br>
              <a:rPr sz="4300"/>
            </a:b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Hellenic era, 600-300 B.C.)</a:t>
            </a:r>
            <a:endParaRPr b="0" lang="en-US" sz="3000" spc="-1" strike="noStrike">
              <a:solidFill>
                <a:srgbClr val="dedede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dedede"/>
              </a:solidFill>
              <a:latin typeface="Georgia"/>
            </a:endParaRPr>
          </a:p>
        </p:txBody>
      </p:sp>
      <p:pic>
        <p:nvPicPr>
          <p:cNvPr id="376" name="Picture 6" descr="그리스 지도"/>
          <p:cNvPicPr/>
          <p:nvPr/>
        </p:nvPicPr>
        <p:blipFill>
          <a:blip r:embed="rId1"/>
          <a:stretch/>
        </p:blipFill>
        <p:spPr>
          <a:xfrm>
            <a:off x="0" y="531720"/>
            <a:ext cx="9191520" cy="55450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0"/>
          <p:cNvSpPr/>
          <p:nvPr/>
        </p:nvSpPr>
        <p:spPr>
          <a:xfrm>
            <a:off x="289080" y="836640"/>
            <a:ext cx="3851280" cy="2663640"/>
          </a:xfrm>
          <a:prstGeom prst="rect">
            <a:avLst/>
          </a:prstGeom>
          <a:solidFill>
            <a:srgbClr val="313340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척박한 생산 조건과 지형 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상업적이고 외향적인 해상문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정치적으로 분산된 도시국가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중앙집중적인 관료국가 불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정치 구조에 대한 합리적 토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44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  <a:ea typeface="맑은 고딕"/>
              </a:rPr>
              <a:t>상대적으로 비옥했던 이오니아 지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4788000" y="1989000"/>
            <a:ext cx="1365120" cy="1420920"/>
          </a:xfrm>
          <a:prstGeom prst="ellipse">
            <a:avLst/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탈레스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Thales)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Miletus, 624?-548/545? B.C.</a:t>
            </a:r>
            <a:endParaRPr b="0" lang="en-US" sz="3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22160" y="4508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dedede"/>
                </a:solidFill>
                <a:latin typeface="Georgia"/>
              </a:rPr>
              <a:t>최초의 과학자</a:t>
            </a:r>
            <a:r>
              <a:rPr b="0" lang="en-US" sz="2600" spc="-1" strike="noStrike">
                <a:solidFill>
                  <a:srgbClr val="dedede"/>
                </a:solidFill>
                <a:latin typeface="Georgia"/>
              </a:rPr>
              <a:t>? </a:t>
            </a:r>
            <a:r>
              <a:rPr b="0" lang="ko-KR" sz="2600" spc="-1" strike="noStrike">
                <a:solidFill>
                  <a:srgbClr val="dedede"/>
                </a:solidFill>
                <a:latin typeface="Georgia"/>
              </a:rPr>
              <a:t>최초의 자연철학자</a:t>
            </a:r>
            <a:r>
              <a:rPr b="0" lang="en-US" sz="2600" spc="-1" strike="noStrike">
                <a:solidFill>
                  <a:srgbClr val="dedede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81" name="Picture 5" descr="Thales"/>
          <p:cNvPicPr/>
          <p:nvPr/>
        </p:nvPicPr>
        <p:blipFill>
          <a:blip r:embed="rId1"/>
          <a:stretch/>
        </p:blipFill>
        <p:spPr>
          <a:xfrm>
            <a:off x="3564000" y="836640"/>
            <a:ext cx="187164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지식 자체를 위한 지식 탐구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별만 바라보고 걷던 나머지 우물에 빠졌다는 일화의 주인공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자연에 대한 탈신비화된 설명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지구는 물 위에 나무토막이나 배처럼 떠 있으며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br>
              <a:rPr sz="2100"/>
            </a:b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지진은 물의 움직임 때문에 발생한다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탈레스의 정리들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22160" y="479700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ffc000"/>
                </a:solidFill>
                <a:latin typeface="Georgia"/>
              </a:rPr>
              <a:t>개인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에 의해 </a:t>
            </a:r>
            <a:r>
              <a:rPr b="0" lang="ko-KR" sz="2100" spc="-1" strike="noStrike">
                <a:solidFill>
                  <a:srgbClr val="ffc000"/>
                </a:solidFill>
                <a:latin typeface="Georgia"/>
              </a:rPr>
              <a:t>증명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된 명제의 탄생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88" name="Picture 4" descr="Thales-theorem"/>
          <p:cNvPicPr/>
          <p:nvPr/>
        </p:nvPicPr>
        <p:blipFill>
          <a:blip r:embed="rId1"/>
          <a:stretch/>
        </p:blipFill>
        <p:spPr>
          <a:xfrm>
            <a:off x="2771640" y="692280"/>
            <a:ext cx="36133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새로운 과학적 질문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세계는 무엇으로 이루어졌는가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?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물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water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물질의 기초에 대한 논쟁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탈레스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-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물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water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아낙시만드로스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-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무한자</a:t>
            </a:r>
            <a:r>
              <a:rPr b="0" lang="en-US" sz="2500" spc="-1" strike="noStrike">
                <a:solidFill>
                  <a:srgbClr val="dedede"/>
                </a:solidFill>
                <a:latin typeface="Georgia"/>
              </a:rPr>
              <a:t>(apeiron)</a:t>
            </a: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아낙시메네스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-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공기</a:t>
            </a:r>
            <a:r>
              <a:rPr b="0" lang="en-US" sz="2500" spc="-1" strike="noStrike">
                <a:solidFill>
                  <a:srgbClr val="dedede"/>
                </a:solidFill>
                <a:latin typeface="Georgia"/>
              </a:rPr>
              <a:t>(pneuma)</a:t>
            </a: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엠페도클레스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-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네 뿌리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물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불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흙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공기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ffc000"/>
                </a:solidFill>
                <a:latin typeface="Georgia"/>
              </a:rPr>
              <a:t>합리적 비판과 논쟁 </a:t>
            </a:r>
            <a:r>
              <a:rPr b="0" lang="en-US" sz="21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100" spc="-1" strike="noStrike">
                <a:solidFill>
                  <a:srgbClr val="ffc000"/>
                </a:solidFill>
                <a:latin typeface="Georgia"/>
              </a:rPr>
              <a:t>밀레토스 학파 형성 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23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C.f.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피타고라스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: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수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데모크리토스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: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원자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기하학적 우주 체계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4360" y="610380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아낙시만드로스의 우주 모형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95" name="Picture 5" descr="%EC%95%84%EB%82%99%EC%8B%9C%EB%A7%8C%EB%93%9C%EB%A1%9C%EC%8A%A4%EC%9D%98_%EC%9A%B0%EC%A3%BC_%EC%B2%B4%EA%B3%84"/>
          <p:cNvPicPr/>
          <p:nvPr/>
        </p:nvPicPr>
        <p:blipFill>
          <a:blip r:embed="rId1"/>
          <a:stretch/>
        </p:blipFill>
        <p:spPr>
          <a:xfrm>
            <a:off x="1692360" y="907920"/>
            <a:ext cx="60418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그림 2주 최초의 문명들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8626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TextBox 3"/>
          <p:cNvSpPr/>
          <p:nvPr/>
        </p:nvSpPr>
        <p:spPr>
          <a:xfrm>
            <a:off x="3132000" y="5375160"/>
            <a:ext cx="2880000" cy="581400"/>
          </a:xfrm>
          <a:prstGeom prst="rect">
            <a:avLst/>
          </a:prstGeom>
          <a:solidFill>
            <a:srgbClr val="5c9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최초의 문명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5" descr="800px-%ED%94%BC%ED%83%80%EA%B3%A0%EB%9D%BC%EC%8A%A4%EC%9D%98_%EC%9A%B0%EC%A3%BC%EA%B4%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628640"/>
            <a:ext cx="7545240" cy="37450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55640" y="3933360"/>
            <a:ext cx="7772400" cy="23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우주는 거대한 현악기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dedede"/>
              </a:solidFill>
              <a:latin typeface="Georgia"/>
            </a:endParaRPr>
          </a:p>
        </p:txBody>
      </p:sp>
      <p:pic>
        <p:nvPicPr>
          <p:cNvPr id="399" name="그림 4" descr="P3100010.JPG"/>
          <p:cNvPicPr/>
          <p:nvPr/>
        </p:nvPicPr>
        <p:blipFill>
          <a:blip r:embed="rId3"/>
          <a:stretch/>
        </p:blipFill>
        <p:spPr>
          <a:xfrm>
            <a:off x="395280" y="765000"/>
            <a:ext cx="23763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그리스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– ‘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자연철학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’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의 발명지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지식 자체를 위한 지식 탐구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vs.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실용적 지식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501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자연에 대한 탈신비화와 객관화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vs.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신화적 우주론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501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보편적 현상에 대한 일반적 해명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vs.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목록의 과학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501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사적 탐구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–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합리적 비판과 논쟁의 전통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vs.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익명의 과학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athenslarge"/>
          <p:cNvPicPr/>
          <p:nvPr/>
        </p:nvPicPr>
        <p:blipFill>
          <a:blip r:embed="rId1"/>
          <a:stretch/>
        </p:blipFill>
        <p:spPr>
          <a:xfrm>
            <a:off x="-1260360" y="-54000"/>
            <a:ext cx="10585440" cy="70945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6481800" cy="1362240"/>
          </a:xfrm>
          <a:prstGeom prst="rect">
            <a:avLst/>
          </a:prstGeom>
          <a:solidFill>
            <a:srgbClr val="424456">
              <a:alpha val="6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플라톤과 아리스토텔레스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deded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296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플라톤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(Platon)</a:t>
            </a:r>
            <a:br>
              <a:rPr sz="4400"/>
            </a:b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Athene, 428-327 B.C.</a:t>
            </a:r>
            <a:endParaRPr b="0" lang="en-US" sz="3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22160" y="5013360"/>
            <a:ext cx="77724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소크라테스의 愛 제자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소크라테스 사후 이탈리아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/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이집트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여행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아테네로 돌아온 후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아카데메이아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Academeia)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설립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348000" y="692280"/>
            <a:ext cx="237636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rebuchet MS"/>
              </a:rPr>
              <a:t>현실세계는 이데아의 불완전한 복제품</a:t>
            </a:r>
            <a:endParaRPr b="0" lang="en-US" sz="35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22160" y="191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dedede"/>
                </a:solidFill>
                <a:latin typeface="Georgia"/>
              </a:rPr>
              <a:t>목수 </a:t>
            </a:r>
            <a:r>
              <a:rPr b="0" lang="en-US" sz="2200" spc="-1" strike="noStrike">
                <a:solidFill>
                  <a:srgbClr val="dedede"/>
                </a:solidFill>
                <a:latin typeface="Georgia"/>
              </a:rPr>
              <a:t>: </a:t>
            </a:r>
            <a:r>
              <a:rPr b="0" lang="ko-KR" sz="2200" spc="-1" strike="noStrike">
                <a:solidFill>
                  <a:srgbClr val="dedede"/>
                </a:solidFill>
                <a:latin typeface="Georgia"/>
              </a:rPr>
              <a:t>의자 </a:t>
            </a:r>
            <a:r>
              <a:rPr b="0" lang="en-US" sz="2200" spc="-1" strike="noStrike">
                <a:solidFill>
                  <a:srgbClr val="dedede"/>
                </a:solidFill>
                <a:latin typeface="Georgia"/>
              </a:rPr>
              <a:t>= </a:t>
            </a:r>
            <a:r>
              <a:rPr b="0" lang="ko-KR" sz="2200" spc="-1" strike="noStrike">
                <a:solidFill>
                  <a:srgbClr val="dedede"/>
                </a:solidFill>
                <a:latin typeface="Georgia"/>
              </a:rPr>
              <a:t>조물주 </a:t>
            </a:r>
            <a:r>
              <a:rPr b="0" lang="en-US" sz="2200" spc="-1" strike="noStrike">
                <a:solidFill>
                  <a:srgbClr val="dedede"/>
                </a:solidFill>
                <a:latin typeface="Georgia"/>
              </a:rPr>
              <a:t>: </a:t>
            </a:r>
            <a:r>
              <a:rPr b="0" lang="ko-KR" sz="2200" spc="-1" strike="noStrike">
                <a:solidFill>
                  <a:srgbClr val="dedede"/>
                </a:solidFill>
                <a:latin typeface="Georgia"/>
              </a:rPr>
              <a:t>세계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dedede"/>
                </a:solidFill>
                <a:latin typeface="Georgia"/>
              </a:rPr>
              <a:t>현실세계는 조물주의 합리적 설계의 산물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55640" y="3933720"/>
          <a:ext cx="7667640" cy="1224000"/>
        </p:xfrm>
        <a:graphic>
          <a:graphicData uri="http://schemas.openxmlformats.org/drawingml/2006/table">
            <a:tbl>
              <a:tblPr/>
              <a:tblGrid>
                <a:gridCol w="1533600"/>
                <a:gridCol w="1562040"/>
                <a:gridCol w="1873080"/>
                <a:gridCol w="1868760"/>
                <a:gridCol w="830160"/>
              </a:tblGrid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2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이데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실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완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영원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이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2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현실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모형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복제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불완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∵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질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생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/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변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/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소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감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18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기하학을 모르는 자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br>
              <a:rPr sz="4300"/>
            </a:b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들어오지 말라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22160" y="40050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아카데메이아 정문 위의 경구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기하학적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4(5)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소론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dedede"/>
              </a:solidFill>
              <a:latin typeface="Georgia"/>
            </a:endParaRPr>
          </a:p>
        </p:txBody>
      </p:sp>
      <p:pic>
        <p:nvPicPr>
          <p:cNvPr id="415" name="Picture 4" descr="platonic6"/>
          <p:cNvPicPr/>
          <p:nvPr/>
        </p:nvPicPr>
        <p:blipFill>
          <a:blip r:embed="rId1"/>
          <a:stretch/>
        </p:blipFill>
        <p:spPr>
          <a:xfrm>
            <a:off x="395280" y="1989000"/>
            <a:ext cx="84247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천구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celestial sphere)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4360" y="6165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영원한 등속 원운동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18" name="Picture 3" descr="플라톤 천구"/>
          <p:cNvPicPr/>
          <p:nvPr/>
        </p:nvPicPr>
        <p:blipFill>
          <a:blip r:embed="rId1"/>
          <a:stretch/>
        </p:blipFill>
        <p:spPr>
          <a:xfrm>
            <a:off x="2340000" y="836640"/>
            <a:ext cx="453564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331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아리스토텔레스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Aristoteles)</a:t>
            </a:r>
            <a:br>
              <a:rPr sz="4400"/>
            </a:b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Athene, 384-322 B.C.</a:t>
            </a:r>
            <a:endParaRPr b="0" lang="en-US" sz="3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22160" y="53733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플라톤의 愛 제자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플라톤 사후 에게해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/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소아시아 여행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아테네로 돌아온 후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리케이움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(Lykeion)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설립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25207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288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이데아는 대상 속에 존재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22160" y="494136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대상의 본질은 물질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matter)+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형상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(form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24" name="Picture 30" descr="dog"/>
          <p:cNvPicPr/>
          <p:nvPr/>
        </p:nvPicPr>
        <p:blipFill>
          <a:blip r:embed="rId1"/>
          <a:stretch/>
        </p:blipFill>
        <p:spPr>
          <a:xfrm>
            <a:off x="2411280" y="907920"/>
            <a:ext cx="2320920" cy="2135160"/>
          </a:xfrm>
          <a:prstGeom prst="rect">
            <a:avLst/>
          </a:prstGeom>
          <a:ln w="0">
            <a:noFill/>
          </a:ln>
        </p:spPr>
      </p:pic>
      <p:grpSp>
        <p:nvGrpSpPr>
          <p:cNvPr id="425" name="Group 31"/>
          <p:cNvGrpSpPr/>
          <p:nvPr/>
        </p:nvGrpSpPr>
        <p:grpSpPr>
          <a:xfrm>
            <a:off x="3432960" y="1918440"/>
            <a:ext cx="4361040" cy="1985760"/>
            <a:chOff x="3432960" y="1918440"/>
            <a:chExt cx="4361040" cy="1985760"/>
          </a:xfrm>
        </p:grpSpPr>
        <p:sp>
          <p:nvSpPr>
            <p:cNvPr id="426" name="Line 32"/>
            <p:cNvSpPr/>
            <p:nvPr/>
          </p:nvSpPr>
          <p:spPr>
            <a:xfrm flipH="1">
              <a:off x="4798440" y="2134440"/>
              <a:ext cx="758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Text Box 33"/>
            <p:cNvSpPr/>
            <p:nvPr/>
          </p:nvSpPr>
          <p:spPr>
            <a:xfrm>
              <a:off x="5653440" y="1918440"/>
              <a:ext cx="214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이데아</a:t>
              </a: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idea)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3432960" y="3139920"/>
              <a:ext cx="3121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플라톤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</a:t>
              </a: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모든 개는 이데아의 불완전한 복제</a:t>
              </a: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)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429" name="Group 35"/>
          <p:cNvGrpSpPr/>
          <p:nvPr/>
        </p:nvGrpSpPr>
        <p:grpSpPr>
          <a:xfrm>
            <a:off x="3103200" y="1341360"/>
            <a:ext cx="4437000" cy="2460600"/>
            <a:chOff x="3103200" y="1341360"/>
            <a:chExt cx="4437000" cy="2460600"/>
          </a:xfrm>
        </p:grpSpPr>
        <p:sp>
          <p:nvSpPr>
            <p:cNvPr id="430" name="Line 36"/>
            <p:cNvSpPr/>
            <p:nvPr/>
          </p:nvSpPr>
          <p:spPr>
            <a:xfrm flipV="1">
              <a:off x="4709160" y="1533960"/>
              <a:ext cx="974160" cy="67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Line 37"/>
            <p:cNvSpPr/>
            <p:nvPr/>
          </p:nvSpPr>
          <p:spPr>
            <a:xfrm>
              <a:off x="4709160" y="2216880"/>
              <a:ext cx="974160" cy="67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Text Box 38"/>
            <p:cNvSpPr/>
            <p:nvPr/>
          </p:nvSpPr>
          <p:spPr>
            <a:xfrm>
              <a:off x="5653440" y="1341360"/>
              <a:ext cx="1886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형상</a:t>
              </a: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form)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Text Box 39"/>
            <p:cNvSpPr/>
            <p:nvPr/>
          </p:nvSpPr>
          <p:spPr>
            <a:xfrm>
              <a:off x="5686920" y="2630520"/>
              <a:ext cx="164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물질</a:t>
              </a: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matter)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Text Box 40"/>
            <p:cNvSpPr/>
            <p:nvPr/>
          </p:nvSpPr>
          <p:spPr>
            <a:xfrm>
              <a:off x="3103200" y="3037680"/>
              <a:ext cx="2786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아리스토텔레스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</a:t>
              </a:r>
              <a:r>
                <a:rPr b="0" lang="ko-KR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모든 개는 형상과 물질을 가짐</a:t>
              </a:r>
              <a:r>
                <a:rPr b="0" lang="en-US" sz="2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)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도시혁명과 관료국가의 형성</a:t>
            </a: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684360" y="1844640"/>
            <a:ext cx="2808000" cy="1008000"/>
          </a:xfrm>
          <a:prstGeom prst="rect">
            <a:avLst/>
          </a:prstGeom>
          <a:solidFill>
            <a:srgbClr val="5354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인구증가로 인한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수용력의 한계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684360" y="3357720"/>
            <a:ext cx="2808000" cy="1511280"/>
          </a:xfrm>
          <a:prstGeom prst="rect">
            <a:avLst/>
          </a:prstGeom>
          <a:solidFill>
            <a:srgbClr val="5354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고밀도 농업의 등장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</a:t>
            </a: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강제노동에 의한 경작</a:t>
            </a: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</a:t>
            </a: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규모 물 관리 시스템</a:t>
            </a: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684360" y="5445000"/>
            <a:ext cx="2808000" cy="10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더 많은 잉여의 창출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2050920" y="2924280"/>
            <a:ext cx="180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2052720" y="5013360"/>
            <a:ext cx="144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3924360" y="3357720"/>
            <a:ext cx="2376360" cy="1511280"/>
          </a:xfrm>
          <a:prstGeom prst="rect">
            <a:avLst/>
          </a:prstGeom>
          <a:solidFill>
            <a:srgbClr val="5959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잡한 기술</a:t>
            </a: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노동</a:t>
            </a: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생산 관리 시스템의 필요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924360" y="5229360"/>
            <a:ext cx="2376360" cy="1296720"/>
          </a:xfrm>
          <a:prstGeom prst="rect">
            <a:avLst/>
          </a:prstGeom>
          <a:solidFill>
            <a:srgbClr val="5959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생산 공출 저장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재분배를 위한 복잡한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정치경제시스템의 필요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3565440" y="5877000"/>
            <a:ext cx="287280" cy="0"/>
          </a:xfrm>
          <a:prstGeom prst="line">
            <a:avLst/>
          </a:prstGeom>
          <a:ln w="316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3565440" y="4076640"/>
            <a:ext cx="287280" cy="0"/>
          </a:xfrm>
          <a:prstGeom prst="line">
            <a:avLst/>
          </a:prstGeom>
          <a:ln w="316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6804000" y="3357720"/>
            <a:ext cx="1943280" cy="3093840"/>
          </a:xfrm>
          <a:prstGeom prst="rect">
            <a:avLst/>
          </a:prstGeom>
          <a:solidFill>
            <a:srgbClr val="438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중앙집중적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규모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관료국가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형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5" name="AutoShape 13"/>
          <p:cNvSpPr/>
          <p:nvPr/>
        </p:nvSpPr>
        <p:spPr>
          <a:xfrm>
            <a:off x="6443640" y="407664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6443640" y="5805360"/>
            <a:ext cx="216000" cy="144720"/>
          </a:xfrm>
          <a:prstGeom prst="rightArrow">
            <a:avLst>
              <a:gd name="adj1" fmla="val 50000"/>
              <a:gd name="adj2" fmla="val 3731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dede"/>
              </a:solidFill>
              <a:latin typeface="Trebuchet MS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95280" y="2133720"/>
          <a:ext cx="8129520" cy="3240000"/>
        </p:xfrm>
        <a:graphic>
          <a:graphicData uri="http://schemas.openxmlformats.org/drawingml/2006/table">
            <a:tbl>
              <a:tblPr/>
              <a:tblGrid>
                <a:gridCol w="1081080"/>
                <a:gridCol w="3619440"/>
                <a:gridCol w="3429000"/>
              </a:tblGrid>
              <a:tr h="86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8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플라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8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아리스토텔레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38086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실재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이데아의 세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현실 세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감각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불신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경험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&lt;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관념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신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방법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수학적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/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추상적 추론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경험 → 분류 → 질서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천상계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vs.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지상계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pic>
        <p:nvPicPr>
          <p:cNvPr id="438" name="Picture 4" descr="Scan0037"/>
          <p:cNvPicPr/>
          <p:nvPr/>
        </p:nvPicPr>
        <p:blipFill>
          <a:blip r:embed="rId1"/>
          <a:srcRect l="3014" t="0" r="1567" b="0"/>
          <a:stretch/>
        </p:blipFill>
        <p:spPr>
          <a:xfrm>
            <a:off x="1763640" y="836640"/>
            <a:ext cx="5894640" cy="489600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deded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"/>
          <p:cNvGraphicFramePr/>
          <p:nvPr/>
        </p:nvGraphicFramePr>
        <p:xfrm>
          <a:off x="1187280" y="1268280"/>
          <a:ext cx="6747120" cy="4564080"/>
        </p:xfrm>
        <a:graphic>
          <a:graphicData uri="http://schemas.openxmlformats.org/drawingml/2006/table">
            <a:tbl>
              <a:tblPr/>
              <a:tblGrid>
                <a:gridCol w="1449720"/>
                <a:gridCol w="2617560"/>
                <a:gridCol w="26798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천상계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ffffff"/>
                          </a:solidFill>
                          <a:latin typeface="Georgia"/>
                          <a:ea typeface="맑은 고딕"/>
                        </a:rPr>
                        <a:t>지상계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위치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달 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달 아래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16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특징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변화 無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완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생성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/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소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불완전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물질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제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5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원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에테르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4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원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(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물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,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불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,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흙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,</a:t>
                      </a: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공기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07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운동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원운동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상하운동 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+alpha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소의 무게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~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소의 제자리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dedede"/>
              </a:solidFill>
              <a:latin typeface="Georgia"/>
            </a:endParaRPr>
          </a:p>
        </p:txBody>
      </p:sp>
      <p:pic>
        <p:nvPicPr>
          <p:cNvPr id="443" name="Picture 3" descr="Scan0037"/>
          <p:cNvPicPr/>
          <p:nvPr/>
        </p:nvPicPr>
        <p:blipFill>
          <a:blip r:embed="rId1"/>
          <a:srcRect l="18328" t="21372" r="35208" b="21828"/>
          <a:stretch/>
        </p:blipFill>
        <p:spPr>
          <a:xfrm>
            <a:off x="1763640" y="476280"/>
            <a:ext cx="5472360" cy="530532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5"/>
          <p:cNvSpPr/>
          <p:nvPr/>
        </p:nvSpPr>
        <p:spPr>
          <a:xfrm>
            <a:off x="4716360" y="3213000"/>
            <a:ext cx="3348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4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원소 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= [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온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/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냉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] [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건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/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습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]</a:t>
            </a: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의 조합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4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원소와 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4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성질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47" name="Picture 4" descr="Scan0036"/>
          <p:cNvPicPr/>
          <p:nvPr/>
        </p:nvPicPr>
        <p:blipFill>
          <a:blip r:embed="rId1"/>
          <a:stretch/>
        </p:blipFill>
        <p:spPr>
          <a:xfrm>
            <a:off x="1908000" y="692280"/>
            <a:ext cx="5472360" cy="49701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5"/>
          <p:cNvSpPr/>
          <p:nvPr/>
        </p:nvSpPr>
        <p:spPr>
          <a:xfrm>
            <a:off x="5219640" y="3860640"/>
            <a:ext cx="35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Trebuchet MS"/>
              </a:rPr>
              <a:t>운동≒변화</a:t>
            </a:r>
            <a:br>
              <a:rPr sz="4400"/>
            </a:b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잠재적인 것이 현실화되는 과정</a:t>
            </a:r>
            <a:endParaRPr b="0" lang="en-US" sz="30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55640" y="400536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그러나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본성이 실현되지 못하는 운동은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? 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강제된 운동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진공은 불가능하다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Georgia"/>
              </a:rPr>
              <a:t>v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 ∝ </a:t>
            </a:r>
            <a:r>
              <a:rPr b="0" i="1" lang="en-US" sz="22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/</a:t>
            </a:r>
            <a:r>
              <a:rPr b="0" i="1" lang="en-US" sz="2200" spc="-1" strike="noStrike">
                <a:solidFill>
                  <a:srgbClr val="ffffff"/>
                </a:solidFill>
                <a:latin typeface="Georgia"/>
              </a:rPr>
              <a:t>R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If </a:t>
            </a:r>
            <a:r>
              <a:rPr b="0" i="1" lang="en-US" sz="2200" spc="-1" strike="noStrike">
                <a:solidFill>
                  <a:srgbClr val="ffffff"/>
                </a:solidFill>
                <a:latin typeface="Georgia"/>
              </a:rPr>
              <a:t>R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→0, then </a:t>
            </a:r>
            <a:r>
              <a:rPr b="0" i="1" lang="en-US" sz="2200" spc="-1" strike="noStrike">
                <a:solidFill>
                  <a:srgbClr val="ffffff"/>
                </a:solidFill>
                <a:latin typeface="Georgia"/>
              </a:rPr>
              <a:t>v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→∞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아리스토텔레스 체계의 통일성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22160" y="1989000"/>
            <a:ext cx="777240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이론과 경험의 통일 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-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상식적이면서 탁월한 설명력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고도로 일관되면서 동시에 매우 포괄적인 이론 체계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5" name="AutoShape 4"/>
          <p:cNvSpPr/>
          <p:nvPr/>
        </p:nvSpPr>
        <p:spPr>
          <a:xfrm>
            <a:off x="1220760" y="3565440"/>
            <a:ext cx="2114640" cy="2479680"/>
          </a:xfrm>
          <a:custGeom>
            <a:avLst/>
            <a:gdLst>
              <a:gd name="textAreaLeft" fmla="*/ 108360 w 2114640"/>
              <a:gd name="textAreaRight" fmla="*/ 2006280 w 2114640"/>
              <a:gd name="textAreaTop" fmla="*/ 108360 h 2479680"/>
              <a:gd name="textAreaBottom" fmla="*/ 2371320 h 2479680"/>
            </a:gdLst>
            <a:ahLst/>
            <a:rect l="textAreaLeft" t="textAreaTop" r="textAreaRight" b="textAreaBottom"/>
            <a:pathLst>
              <a:path w="21600" h="25328">
                <a:moveTo>
                  <a:pt x="3782" y="0"/>
                </a:moveTo>
                <a:arcTo wR="3782" hR="3782" stAng="16200000" swAng="-5400000"/>
                <a:lnTo>
                  <a:pt x="0" y="21546"/>
                </a:lnTo>
                <a:arcTo wR="3782" hR="3782" stAng="10800000" swAng="-5400000"/>
                <a:lnTo>
                  <a:pt x="17818" y="253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AutoShape 5"/>
          <p:cNvSpPr/>
          <p:nvPr/>
        </p:nvSpPr>
        <p:spPr>
          <a:xfrm>
            <a:off x="1254240" y="3573360"/>
            <a:ext cx="2050920" cy="2430720"/>
          </a:xfrm>
          <a:custGeom>
            <a:avLst/>
            <a:gdLst>
              <a:gd name="textAreaLeft" fmla="*/ 100080 w 2050920"/>
              <a:gd name="textAreaRight" fmla="*/ 1950840 w 2050920"/>
              <a:gd name="textAreaTop" fmla="*/ 100080 h 2430720"/>
              <a:gd name="textAreaBottom" fmla="*/ 2330640 h 2430720"/>
            </a:gdLst>
            <a:ahLst/>
            <a:rect l="textAreaLeft" t="textAreaTop" r="textAreaRight" b="textAreaBottom"/>
            <a:pathLst>
              <a:path w="21600" h="25599">
                <a:moveTo>
                  <a:pt x="3600" y="0"/>
                </a:moveTo>
                <a:arcTo wR="3600" hR="3600" stAng="16200000" swAng="-5400000"/>
                <a:lnTo>
                  <a:pt x="0" y="21999"/>
                </a:lnTo>
                <a:arcTo wR="3600" hR="3600" stAng="10800000" swAng="-5400000"/>
                <a:lnTo>
                  <a:pt x="18000" y="255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7" name="AutoShape 6"/>
          <p:cNvSpPr/>
          <p:nvPr/>
        </p:nvSpPr>
        <p:spPr>
          <a:xfrm>
            <a:off x="1270080" y="5362560"/>
            <a:ext cx="2023920" cy="61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8" name="AutoShape 7"/>
          <p:cNvSpPr/>
          <p:nvPr/>
        </p:nvSpPr>
        <p:spPr>
          <a:xfrm>
            <a:off x="1270080" y="3592440"/>
            <a:ext cx="2023920" cy="614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459" name="Group 8"/>
          <p:cNvGrpSpPr/>
          <p:nvPr/>
        </p:nvGrpSpPr>
        <p:grpSpPr>
          <a:xfrm>
            <a:off x="1947960" y="3301920"/>
            <a:ext cx="628560" cy="540000"/>
            <a:chOff x="1947960" y="3301920"/>
            <a:chExt cx="628560" cy="540000"/>
          </a:xfrm>
        </p:grpSpPr>
        <p:sp>
          <p:nvSpPr>
            <p:cNvPr id="460" name="Oval 9"/>
            <p:cNvSpPr/>
            <p:nvPr/>
          </p:nvSpPr>
          <p:spPr>
            <a:xfrm>
              <a:off x="1947960" y="3316680"/>
              <a:ext cx="628560" cy="519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Oval 10"/>
            <p:cNvSpPr/>
            <p:nvPr/>
          </p:nvSpPr>
          <p:spPr>
            <a:xfrm>
              <a:off x="1954440" y="3301920"/>
              <a:ext cx="607680" cy="540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Oval 11"/>
            <p:cNvSpPr/>
            <p:nvPr/>
          </p:nvSpPr>
          <p:spPr>
            <a:xfrm>
              <a:off x="1962000" y="3304800"/>
              <a:ext cx="593640" cy="526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Oval 12"/>
            <p:cNvSpPr/>
            <p:nvPr/>
          </p:nvSpPr>
          <p:spPr>
            <a:xfrm>
              <a:off x="1968480" y="3310200"/>
              <a:ext cx="564480" cy="491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Oval 13"/>
            <p:cNvSpPr/>
            <p:nvPr/>
          </p:nvSpPr>
          <p:spPr>
            <a:xfrm>
              <a:off x="2001240" y="3323160"/>
              <a:ext cx="501480" cy="399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65" name="Text Box 14"/>
          <p:cNvSpPr/>
          <p:nvPr/>
        </p:nvSpPr>
        <p:spPr>
          <a:xfrm>
            <a:off x="2079360" y="3378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1295280" y="3959280"/>
            <a:ext cx="201132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우주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-------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상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상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7" name="AutoShape 16"/>
          <p:cNvSpPr/>
          <p:nvPr/>
        </p:nvSpPr>
        <p:spPr>
          <a:xfrm>
            <a:off x="3530520" y="3565440"/>
            <a:ext cx="2114640" cy="2479680"/>
          </a:xfrm>
          <a:custGeom>
            <a:avLst/>
            <a:gdLst>
              <a:gd name="textAreaLeft" fmla="*/ 108360 w 2114640"/>
              <a:gd name="textAreaRight" fmla="*/ 2006280 w 2114640"/>
              <a:gd name="textAreaTop" fmla="*/ 108360 h 2479680"/>
              <a:gd name="textAreaBottom" fmla="*/ 2371320 h 2479680"/>
            </a:gdLst>
            <a:ahLst/>
            <a:rect l="textAreaLeft" t="textAreaTop" r="textAreaRight" b="textAreaBottom"/>
            <a:pathLst>
              <a:path w="21600" h="25328">
                <a:moveTo>
                  <a:pt x="3782" y="0"/>
                </a:moveTo>
                <a:arcTo wR="3782" hR="3782" stAng="16200000" swAng="-5400000"/>
                <a:lnTo>
                  <a:pt x="0" y="21546"/>
                </a:lnTo>
                <a:arcTo wR="3782" hR="3782" stAng="10800000" swAng="-5400000"/>
                <a:lnTo>
                  <a:pt x="17818" y="253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66af35"/>
              </a:gs>
              <a:gs pos="100000">
                <a:srgbClr val="588d3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AutoShape 17"/>
          <p:cNvSpPr/>
          <p:nvPr/>
        </p:nvSpPr>
        <p:spPr>
          <a:xfrm>
            <a:off x="3564000" y="3573360"/>
            <a:ext cx="2049480" cy="2430720"/>
          </a:xfrm>
          <a:custGeom>
            <a:avLst/>
            <a:gdLst>
              <a:gd name="textAreaLeft" fmla="*/ 99720 w 2049480"/>
              <a:gd name="textAreaRight" fmla="*/ 1949760 w 2049480"/>
              <a:gd name="textAreaTop" fmla="*/ 99720 h 2430720"/>
              <a:gd name="textAreaBottom" fmla="*/ 2331000 h 2430720"/>
            </a:gdLst>
            <a:ahLst/>
            <a:rect l="textAreaLeft" t="textAreaTop" r="textAreaRight" b="textAreaBottom"/>
            <a:pathLst>
              <a:path w="21600" h="25617">
                <a:moveTo>
                  <a:pt x="3600" y="0"/>
                </a:moveTo>
                <a:arcTo wR="3600" hR="3600" stAng="16200000" swAng="-5400000"/>
                <a:lnTo>
                  <a:pt x="0" y="22017"/>
                </a:lnTo>
                <a:arcTo wR="3600" hR="3600" stAng="10800000" swAng="-5400000"/>
                <a:lnTo>
                  <a:pt x="18000" y="25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9" name="AutoShape 18"/>
          <p:cNvSpPr/>
          <p:nvPr/>
        </p:nvSpPr>
        <p:spPr>
          <a:xfrm>
            <a:off x="3579840" y="5362560"/>
            <a:ext cx="2023920" cy="61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d844"/>
              </a:gs>
              <a:gs pos="100000">
                <a:srgbClr val="c7ea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0" name="AutoShape 19"/>
          <p:cNvSpPr/>
          <p:nvPr/>
        </p:nvSpPr>
        <p:spPr>
          <a:xfrm>
            <a:off x="3579840" y="3592440"/>
            <a:ext cx="2023920" cy="614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f2c1"/>
              </a:gs>
              <a:gs pos="100000">
                <a:srgbClr val="99d8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1" name="Oval 20"/>
          <p:cNvSpPr/>
          <p:nvPr/>
        </p:nvSpPr>
        <p:spPr>
          <a:xfrm>
            <a:off x="4257720" y="3317760"/>
            <a:ext cx="628560" cy="5191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2" name="Oval 21"/>
          <p:cNvSpPr/>
          <p:nvPr/>
        </p:nvSpPr>
        <p:spPr>
          <a:xfrm>
            <a:off x="4264200" y="3303720"/>
            <a:ext cx="607680" cy="5396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3" name="Oval 22"/>
          <p:cNvSpPr/>
          <p:nvPr/>
        </p:nvSpPr>
        <p:spPr>
          <a:xfrm>
            <a:off x="4272120" y="3305160"/>
            <a:ext cx="593640" cy="5284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4" name="Oval 23"/>
          <p:cNvSpPr/>
          <p:nvPr/>
        </p:nvSpPr>
        <p:spPr>
          <a:xfrm>
            <a:off x="4278240" y="3311640"/>
            <a:ext cx="565200" cy="4903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5" name="Oval 24"/>
          <p:cNvSpPr/>
          <p:nvPr/>
        </p:nvSpPr>
        <p:spPr>
          <a:xfrm>
            <a:off x="4313160" y="3324240"/>
            <a:ext cx="500040" cy="399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4389120" y="3378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7" name="Text Box 26"/>
          <p:cNvSpPr/>
          <p:nvPr/>
        </p:nvSpPr>
        <p:spPr>
          <a:xfrm>
            <a:off x="3605040" y="3959280"/>
            <a:ext cx="200988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질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-------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8" name="AutoShape 27"/>
          <p:cNvSpPr/>
          <p:nvPr/>
        </p:nvSpPr>
        <p:spPr>
          <a:xfrm>
            <a:off x="5840280" y="3565440"/>
            <a:ext cx="2114640" cy="2479680"/>
          </a:xfrm>
          <a:custGeom>
            <a:avLst/>
            <a:gdLst>
              <a:gd name="textAreaLeft" fmla="*/ 108360 w 2114640"/>
              <a:gd name="textAreaRight" fmla="*/ 2006280 w 2114640"/>
              <a:gd name="textAreaTop" fmla="*/ 108360 h 2479680"/>
              <a:gd name="textAreaBottom" fmla="*/ 2371320 h 2479680"/>
            </a:gdLst>
            <a:ahLst/>
            <a:rect l="textAreaLeft" t="textAreaTop" r="textAreaRight" b="textAreaBottom"/>
            <a:pathLst>
              <a:path w="21600" h="25328">
                <a:moveTo>
                  <a:pt x="3782" y="0"/>
                </a:moveTo>
                <a:arcTo wR="3782" hR="3782" stAng="16200000" swAng="-5400000"/>
                <a:lnTo>
                  <a:pt x="0" y="21546"/>
                </a:lnTo>
                <a:arcTo wR="3782" hR="3782" stAng="10800000" swAng="-5400000"/>
                <a:lnTo>
                  <a:pt x="17818" y="253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c16237"/>
              </a:gs>
              <a:gs pos="100000">
                <a:srgbClr val="ab4e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9" name="AutoShape 28"/>
          <p:cNvSpPr/>
          <p:nvPr/>
        </p:nvSpPr>
        <p:spPr>
          <a:xfrm>
            <a:off x="5872320" y="3573360"/>
            <a:ext cx="2050920" cy="2430720"/>
          </a:xfrm>
          <a:custGeom>
            <a:avLst/>
            <a:gdLst>
              <a:gd name="textAreaLeft" fmla="*/ 100080 w 2050920"/>
              <a:gd name="textAreaRight" fmla="*/ 1950840 w 2050920"/>
              <a:gd name="textAreaTop" fmla="*/ 100080 h 2430720"/>
              <a:gd name="textAreaBottom" fmla="*/ 2330640 h 2430720"/>
            </a:gdLst>
            <a:ahLst/>
            <a:rect l="textAreaLeft" t="textAreaTop" r="textAreaRight" b="textAreaBottom"/>
            <a:pathLst>
              <a:path w="21600" h="25599">
                <a:moveTo>
                  <a:pt x="3600" y="0"/>
                </a:moveTo>
                <a:arcTo wR="3600" hR="3600" stAng="16200000" swAng="-5400000"/>
                <a:lnTo>
                  <a:pt x="0" y="21999"/>
                </a:lnTo>
                <a:arcTo wR="3600" hR="3600" stAng="10800000" swAng="-5400000"/>
                <a:lnTo>
                  <a:pt x="18000" y="255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8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0" name="AutoShape 29"/>
          <p:cNvSpPr/>
          <p:nvPr/>
        </p:nvSpPr>
        <p:spPr>
          <a:xfrm>
            <a:off x="5889600" y="5362560"/>
            <a:ext cx="2023920" cy="61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8b65"/>
              </a:gs>
              <a:gs pos="100000">
                <a:srgbClr val="f2bc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1" name="AutoShape 30"/>
          <p:cNvSpPr/>
          <p:nvPr/>
        </p:nvSpPr>
        <p:spPr>
          <a:xfrm>
            <a:off x="5889600" y="3592440"/>
            <a:ext cx="2023920" cy="614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d8cc"/>
              </a:gs>
              <a:gs pos="100000">
                <a:srgbClr val="e98b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482" name="Group 31"/>
          <p:cNvGrpSpPr/>
          <p:nvPr/>
        </p:nvGrpSpPr>
        <p:grpSpPr>
          <a:xfrm>
            <a:off x="6567480" y="3301920"/>
            <a:ext cx="628560" cy="540000"/>
            <a:chOff x="6567480" y="3301920"/>
            <a:chExt cx="628560" cy="540000"/>
          </a:xfrm>
        </p:grpSpPr>
        <p:sp>
          <p:nvSpPr>
            <p:cNvPr id="483" name="Oval 32"/>
            <p:cNvSpPr/>
            <p:nvPr/>
          </p:nvSpPr>
          <p:spPr>
            <a:xfrm>
              <a:off x="6567480" y="3316680"/>
              <a:ext cx="628560" cy="519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4" name="Oval 33"/>
            <p:cNvSpPr/>
            <p:nvPr/>
          </p:nvSpPr>
          <p:spPr>
            <a:xfrm>
              <a:off x="6573960" y="3301920"/>
              <a:ext cx="607680" cy="540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5" name="Oval 34"/>
            <p:cNvSpPr/>
            <p:nvPr/>
          </p:nvSpPr>
          <p:spPr>
            <a:xfrm>
              <a:off x="6581520" y="3304800"/>
              <a:ext cx="593640" cy="526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6" name="Oval 35"/>
            <p:cNvSpPr/>
            <p:nvPr/>
          </p:nvSpPr>
          <p:spPr>
            <a:xfrm>
              <a:off x="6588000" y="3310200"/>
              <a:ext cx="564480" cy="491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7" name="Oval 36"/>
            <p:cNvSpPr/>
            <p:nvPr/>
          </p:nvSpPr>
          <p:spPr>
            <a:xfrm>
              <a:off x="6620760" y="3323160"/>
              <a:ext cx="501480" cy="399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88" name="Text Box 37"/>
          <p:cNvSpPr/>
          <p:nvPr/>
        </p:nvSpPr>
        <p:spPr>
          <a:xfrm>
            <a:off x="6697440" y="3378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Text Box 38"/>
          <p:cNvSpPr/>
          <p:nvPr/>
        </p:nvSpPr>
        <p:spPr>
          <a:xfrm>
            <a:off x="5915160" y="3959280"/>
            <a:ext cx="200952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운동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-------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연스런 운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제된 운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AutoShape 39"/>
          <p:cNvSpPr/>
          <p:nvPr/>
        </p:nvSpPr>
        <p:spPr>
          <a:xfrm>
            <a:off x="3021120" y="3946680"/>
            <a:ext cx="863640" cy="576000"/>
          </a:xfrm>
          <a:prstGeom prst="leftRightArrow">
            <a:avLst>
              <a:gd name="adj1" fmla="val 50000"/>
              <a:gd name="adj2" fmla="val 29848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1" name="AutoShape 40"/>
          <p:cNvSpPr/>
          <p:nvPr/>
        </p:nvSpPr>
        <p:spPr>
          <a:xfrm>
            <a:off x="5324400" y="4019400"/>
            <a:ext cx="863640" cy="576360"/>
          </a:xfrm>
          <a:prstGeom prst="leftRightArrow">
            <a:avLst>
              <a:gd name="adj1" fmla="val 50000"/>
              <a:gd name="adj2" fmla="val 2983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dedede"/>
              </a:solidFill>
              <a:latin typeface="Georgia"/>
            </a:endParaRPr>
          </a:p>
        </p:txBody>
      </p:sp>
      <p:pic>
        <p:nvPicPr>
          <p:cNvPr id="348" name="Picture 4" descr="07Ziggurat"/>
          <p:cNvPicPr/>
          <p:nvPr/>
        </p:nvPicPr>
        <p:blipFill>
          <a:blip r:embed="rId1"/>
          <a:stretch/>
        </p:blipFill>
        <p:spPr>
          <a:xfrm>
            <a:off x="0" y="476280"/>
            <a:ext cx="4284720" cy="2952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teotihuacan"/>
          <p:cNvPicPr/>
          <p:nvPr/>
        </p:nvPicPr>
        <p:blipFill>
          <a:blip r:embed="rId2"/>
          <a:stretch/>
        </p:blipFill>
        <p:spPr>
          <a:xfrm>
            <a:off x="4284720" y="3429000"/>
            <a:ext cx="4995720" cy="3500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Great%20Sphinx,%20Chephren%20Pyramid,%20Giza,%20Egypt"/>
          <p:cNvPicPr/>
          <p:nvPr/>
        </p:nvPicPr>
        <p:blipFill>
          <a:blip r:embed="rId3"/>
          <a:stretch/>
        </p:blipFill>
        <p:spPr>
          <a:xfrm>
            <a:off x="-635040" y="3429000"/>
            <a:ext cx="4919760" cy="3429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Figura%2006%20Ziggurat02%20Ur%20color"/>
          <p:cNvPicPr/>
          <p:nvPr/>
        </p:nvPicPr>
        <p:blipFill>
          <a:blip r:embed="rId4"/>
          <a:stretch/>
        </p:blipFill>
        <p:spPr>
          <a:xfrm>
            <a:off x="4284720" y="547560"/>
            <a:ext cx="5329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22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고대 문명을 지탱했던 </a:t>
            </a:r>
            <a:br>
              <a:rPr sz="4300"/>
            </a:b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기술과 지식은 무엇이었을까</a:t>
            </a:r>
            <a:r>
              <a:rPr b="1" lang="en-US" sz="43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deded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530064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문자와 숫자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pic>
        <p:nvPicPr>
          <p:cNvPr id="355" name="Picture 3" descr="그림 2주 상형문자"/>
          <p:cNvPicPr/>
          <p:nvPr/>
        </p:nvPicPr>
        <p:blipFill>
          <a:blip r:embed="rId1"/>
          <a:srcRect l="0" t="0" r="0" b="16434"/>
          <a:stretch/>
        </p:blipFill>
        <p:spPr>
          <a:xfrm>
            <a:off x="826920" y="907920"/>
            <a:ext cx="7417080" cy="4254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egyptian numbers 1"/>
          <p:cNvPicPr/>
          <p:nvPr/>
        </p:nvPicPr>
        <p:blipFill>
          <a:blip r:embed="rId2"/>
          <a:stretch/>
        </p:blipFill>
        <p:spPr>
          <a:xfrm>
            <a:off x="4861080" y="1628640"/>
            <a:ext cx="4001760" cy="2293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4105080" cy="2303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babylonmath_sexagesimal numbers"/>
          <p:cNvPicPr/>
          <p:nvPr/>
        </p:nvPicPr>
        <p:blipFill>
          <a:blip r:embed="rId4"/>
          <a:stretch/>
        </p:blipFill>
        <p:spPr>
          <a:xfrm>
            <a:off x="539640" y="981000"/>
            <a:ext cx="7993080" cy="36543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3"/>
          <p:cNvSpPr/>
          <p:nvPr/>
        </p:nvSpPr>
        <p:spPr>
          <a:xfrm>
            <a:off x="539640" y="6093000"/>
            <a:ext cx="80596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구전과 인간의 기억력 대체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  <a:ea typeface="맑은 고딕"/>
              </a:rPr>
              <a:t>실용적인 필요에서 가장 중요한 기술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252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기하학과 산수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22160" y="4581360"/>
            <a:ext cx="77724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측량 및 건축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상업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회계를 위해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공학과 분배에 관한 문제가 대부분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알고리즘적인 해법 찾는데 주력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증명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X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.f) 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정밀한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π 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값 구하기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놀이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의 흔적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? </a:t>
            </a:r>
            <a:r>
              <a:rPr b="0" lang="ko-KR" sz="2400" spc="-1" strike="noStrike">
                <a:solidFill>
                  <a:srgbClr val="ffffff"/>
                </a:solidFill>
                <a:latin typeface="Georgia"/>
              </a:rPr>
              <a:t>실용적 목적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362" name="Picture 5" descr="http://www.postech.ac.kr/press/hs/collectedata/990304191151Moscow_papyrus.jpeg"/>
          <p:cNvPicPr/>
          <p:nvPr/>
        </p:nvPicPr>
        <p:blipFill>
          <a:blip r:embed="rId1"/>
          <a:stretch/>
        </p:blipFill>
        <p:spPr>
          <a:xfrm>
            <a:off x="2916360" y="692280"/>
            <a:ext cx="342900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천문학과 달력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22160" y="4652640"/>
            <a:ext cx="77724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농업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종교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상업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경제 활동에서 모두 필요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정밀한 천문학과 달력은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왕권의 상징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대형 건축물에도 천문학적 지식 반영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대수적 기법을 이용한 계산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. </a:t>
            </a:r>
            <a:r>
              <a:rPr b="0" lang="ko-KR" sz="2400" spc="-1" strike="noStrike">
                <a:solidFill>
                  <a:srgbClr val="dedede"/>
                </a:solidFill>
                <a:latin typeface="Georgia"/>
              </a:rPr>
              <a:t>기하학적 모형 </a:t>
            </a:r>
            <a:r>
              <a:rPr b="0" lang="en-US" sz="2400" spc="-1" strike="noStrike">
                <a:solidFill>
                  <a:srgbClr val="dedede"/>
                </a:solidFill>
                <a:latin typeface="Georgi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65" name="Picture 4" descr="스톤헨지 일출"/>
          <p:cNvPicPr/>
          <p:nvPr/>
        </p:nvPicPr>
        <p:blipFill>
          <a:blip r:embed="rId1"/>
          <a:stretch/>
        </p:blipFill>
        <p:spPr>
          <a:xfrm>
            <a:off x="2484360" y="620640"/>
            <a:ext cx="403236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22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Trebuchet MS"/>
              </a:rPr>
              <a:t>신화</a:t>
            </a:r>
            <a:endParaRPr b="0" lang="en-US" sz="4300" spc="-1" strike="noStrike">
              <a:solidFill>
                <a:srgbClr val="dedede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22160" y="4292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세계에 대한 </a:t>
            </a:r>
            <a:r>
              <a:rPr b="0" lang="ko-KR" sz="2100" spc="-1" strike="noStrike">
                <a:solidFill>
                  <a:srgbClr val="ffc000"/>
                </a:solidFill>
                <a:latin typeface="Georgia"/>
              </a:rPr>
              <a:t>설명과 예측</a:t>
            </a:r>
            <a:r>
              <a:rPr b="0" lang="en-US" sz="2100" spc="-1" strike="noStrike">
                <a:solidFill>
                  <a:srgbClr val="ffc000"/>
                </a:solidFill>
                <a:latin typeface="Georgia"/>
              </a:rPr>
              <a:t>(?)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세계와 국가의 기원</a:t>
            </a:r>
            <a:r>
              <a:rPr b="0" lang="en-US" sz="2100" spc="-1" strike="noStrike">
                <a:solidFill>
                  <a:srgbClr val="dedede"/>
                </a:solidFill>
                <a:latin typeface="Georgia"/>
              </a:rPr>
              <a:t>, </a:t>
            </a: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세계와 인간의 운행을 다룸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의인화와 초월적 대상에 기반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dedede"/>
                </a:solidFill>
                <a:latin typeface="Georgia"/>
              </a:rPr>
              <a:t>주술 행위의 이론적 근거</a:t>
            </a:r>
            <a:endParaRPr b="0" lang="en-US" sz="21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68" name="Picture 4" descr="nut_geb"/>
          <p:cNvPicPr/>
          <p:nvPr/>
        </p:nvPicPr>
        <p:blipFill>
          <a:blip r:embed="rId1"/>
          <a:stretch/>
        </p:blipFill>
        <p:spPr>
          <a:xfrm>
            <a:off x="1042920" y="692280"/>
            <a:ext cx="3421080" cy="2565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bk_lg"/>
          <p:cNvPicPr/>
          <p:nvPr/>
        </p:nvPicPr>
        <p:blipFill>
          <a:blip r:embed="rId2"/>
          <a:stretch/>
        </p:blipFill>
        <p:spPr>
          <a:xfrm>
            <a:off x="4643280" y="692280"/>
            <a:ext cx="3488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3:59:03Z</dcterms:created>
  <dc:creator>zolaist</dc:creator>
  <dc:description/>
  <dc:language>en-US</dc:language>
  <cp:lastModifiedBy>zolaist</cp:lastModifiedBy>
  <dcterms:modified xsi:type="dcterms:W3CDTF">2011-03-11T01:13:39Z</dcterms:modified>
  <cp:revision>137</cp:revision>
  <dc:subject/>
  <dc:title>인쇄술 혁명</dc:title>
</cp:coreProperties>
</file>